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9.png" ContentType="image/png"/>
  <Override PartName="/ppt/media/image34.png" ContentType="image/png"/>
  <Override PartName="/ppt/media/image13.png" ContentType="image/png"/>
  <Override PartName="/ppt/media/image33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F753-7644-475F-B5BB-8253D1829B8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DBA4-0970-47A8-9AD6-6EB93C873A78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9D6-0FBC-40B8-815F-D6D8EB84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5439-247E-437E-9E2F-FE4123D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858-890A-4F03-B255-7D712F75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423-2768-492A-89BB-96B38579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AF5-B725-4C1B-976B-61C3DD83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A9ED-F779-41A2-BFCF-5D170D2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4F1A-EDA0-4152-BDDB-2C2C2B0C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AB6-F5E6-4CD1-8297-F57A1617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076-B672-4C75-A297-ECCAC979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161-BEBF-4FE3-9AB9-018CDB0F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E87-5FD2-4BDF-9BD6-23176BC2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DEC-447B-4513-B2FB-C489940F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C20D-3387-4357-9E7B-A80F8DE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C47E-6F35-4384-B2A1-6E192A63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B14B-A550-46CB-A8D8-A93965A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A3E7-9D69-4BA6-8A80-C7B64FF4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5B6D-F9EB-4641-82DF-968EBC30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CB26-3384-4F78-89F6-0817950E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A2EE-FD2D-4BCA-B6C5-AD07008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2D19-0F73-47F9-9418-6EE829C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7649-73F7-4338-939B-5E1B10A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CB6A-1E8B-4E5B-B728-6972C80D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9AE-2266-4B3D-9E66-1EF4C36A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F88A-67A0-4E6D-BD55-18D57A72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0506-CDB4-4591-A470-C313D39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C769-EABC-489E-B580-40FC3B55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B88C-92C1-4B96-A64A-8456F93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B73F-C690-4CEA-992C-B531B844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40EEA-50A3-4492-998B-D37ADFDD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3361-F2FD-40AF-95B9-9395D052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8A97-B742-453F-83E2-6EA89503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B20A-1270-4F3B-8FAB-581D35B2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0B72B-9DC1-4D2E-85E2-7C7AA88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7CFA-6424-4856-B7B9-4B06370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6E0B-673D-4550-B3F1-A927239C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934B-B527-4DE3-A606-E812BC2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5F4D-4909-4599-AEA1-A73A0BA4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95EA3-31A7-4540-90D2-EF7E184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C70B0-AFDB-4608-A7B8-19A3EF88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AD67-443E-4FD3-9B5A-2D0E22A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66E19-F9D6-4E3A-8475-E01E230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804C-4E9C-4AD9-AE3D-FD0950FF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7A87F-A2DF-49C0-A9DC-2D5A414A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E56E-F8F7-4683-B6C1-AA3449C8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168-1E84-4FE2-8960-D0232F08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B08C3-46C7-46CF-A93D-BC4986C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C58E7-A72F-4763-B072-F2A049EB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76E30-2588-4A0E-B382-540EC3E7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478C-8FD0-40D2-96B9-A67D4EE9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28AD-2655-4174-8EDD-195DF1A3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7C685-9F94-4688-B768-F5C55EC1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91F6-BB95-45B4-B3E6-43A19C35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601D5-A145-4FFE-8936-B7AD0B9F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DEE7-3CBA-45ED-91FC-DC9C122E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19CF-DB8E-48E5-A6E0-5B464A81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D8B-EAA1-4181-9681-2F630096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F730F-BE1D-4473-98D9-9F02CE59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1F56-7398-46C5-9515-6C36E173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EFFD-5FD1-4F10-8B75-739888A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BF19-F50C-4CBF-8291-778172D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01A0-8C70-42C2-ABFC-42450728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79134-45A3-4F5B-BF7A-9A35A292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9BD15-158A-4AE5-BA68-6AB7E61B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D2437-404B-4689-AEDA-2F3EBD7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434A1-683D-4C8C-97FF-36DEB48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6B68-12A0-4AEC-A7A5-6190CAF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707-48D7-4643-9369-BFE2791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E32A5-BEA4-48C1-90AA-0D6485EC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C28A1-C493-4C59-81F0-29C2043D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24A1-AF4F-4AB2-A290-45BDF8A9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B15DB-265F-48B8-A48F-B7294887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089BE-C969-4CFA-AF84-459CC7C4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17D9F-B2CE-4CB1-8E32-330264D4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92204-76E8-4DAE-AAFB-B8589BA6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79DA-1A4A-4C93-9AE6-79620F0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F4F49-3335-4798-ACC4-B6A4F34A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F8CC6-7613-4776-8174-EFA3E91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882-97E4-40CA-8FF7-33038F2A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911A-5B7B-49DA-9C4F-CDA0341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7FA30-8E72-43DC-B108-25E39DD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F8AD-99FA-4BE0-832F-9583B6BD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F53D-13E2-4C0A-95C0-8A3E5545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8DC26-58C4-43D8-BD6A-E9956767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AE4-47A4-4476-AD23-7D7EF9F8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74A6-239E-4E38-A7ED-669C6AD156EA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A42-455F-479F-9C1F-4570F68EE6CD}" type="slidenum">
              <a:rPr b="0" lang="en-NZ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22B-4140-44DA-85BB-6AC0633D121E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45FB-884C-462D-AF3F-DEDFAADEDCD2}" type="slidenum">
              <a:rPr b="0" lang="en-NZ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7FC3-4CD8-442C-935A-BE9C68AA3684}" type="slidenum">
              <a:rPr b="0" lang="en-NZ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BC6F-20C7-43C2-8C07-A2842BAE9E5B}" type="slidenum">
              <a:rPr b="0" lang="en-NZ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C92F-19AC-4036-B6D9-F286855FAA89}" type="slidenum">
              <a:rPr b="0" lang="en-NZ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3" descr=""/>
          <p:cNvPicPr/>
          <p:nvPr/>
        </p:nvPicPr>
        <p:blipFill>
          <a:blip r:embed="rId1"/>
          <a:stretch/>
        </p:blipFill>
        <p:spPr>
          <a:xfrm>
            <a:off x="682560" y="334800"/>
            <a:ext cx="8156520" cy="2090880"/>
          </a:xfrm>
          <a:prstGeom prst="rect">
            <a:avLst/>
          </a:prstGeom>
          <a:ln w="0">
            <a:noFill/>
          </a:ln>
        </p:spPr>
      </p:pic>
      <p:pic>
        <p:nvPicPr>
          <p:cNvPr id="309" name="Rectangle 4" descr=""/>
          <p:cNvPicPr/>
          <p:nvPr/>
        </p:nvPicPr>
        <p:blipFill>
          <a:blip r:embed="rId2"/>
          <a:stretch/>
        </p:blipFill>
        <p:spPr>
          <a:xfrm>
            <a:off x="2365200" y="1298520"/>
            <a:ext cx="4469040" cy="1236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basil.jpg"/>
          <p:cNvPicPr/>
          <p:nvPr/>
        </p:nvPicPr>
        <p:blipFill>
          <a:blip r:embed="rId3"/>
          <a:stretch/>
        </p:blipFill>
        <p:spPr>
          <a:xfrm>
            <a:off x="500040" y="1928880"/>
            <a:ext cx="2286000" cy="346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moscow building.jpg"/>
          <p:cNvPicPr/>
          <p:nvPr/>
        </p:nvPicPr>
        <p:blipFill>
          <a:blip r:embed="rId4"/>
          <a:stretch/>
        </p:blipFill>
        <p:spPr>
          <a:xfrm>
            <a:off x="6429240" y="17859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st basils catherdral.jpg"/>
          <p:cNvPicPr/>
          <p:nvPr/>
        </p:nvPicPr>
        <p:blipFill>
          <a:blip r:embed="rId5"/>
          <a:stretch/>
        </p:blipFill>
        <p:spPr>
          <a:xfrm>
            <a:off x="2928960" y="2357280"/>
            <a:ext cx="328608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xplosion 2 3"/>
          <p:cNvSpPr/>
          <p:nvPr/>
        </p:nvSpPr>
        <p:spPr>
          <a:xfrm>
            <a:off x="1285920" y="1143000"/>
            <a:ext cx="6643800" cy="5357880"/>
          </a:xfrm>
          <a:prstGeom prst="irregularSeal2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Rectangle 5" descr=""/>
          <p:cNvPicPr/>
          <p:nvPr/>
        </p:nvPicPr>
        <p:blipFill>
          <a:blip r:embed="rId1"/>
          <a:stretch/>
        </p:blipFill>
        <p:spPr>
          <a:xfrm>
            <a:off x="1925640" y="103320"/>
            <a:ext cx="4803840" cy="113508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6" descr=""/>
          <p:cNvPicPr/>
          <p:nvPr/>
        </p:nvPicPr>
        <p:blipFill>
          <a:blip r:embed="rId2"/>
          <a:stretch/>
        </p:blipFill>
        <p:spPr>
          <a:xfrm>
            <a:off x="2011320" y="2462040"/>
            <a:ext cx="45054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step 1 a.jpg"/>
          <p:cNvPicPr/>
          <p:nvPr/>
        </p:nvPicPr>
        <p:blipFill>
          <a:blip r:embed="rId1"/>
          <a:srcRect l="13246" t="14815" r="25832" b="18522"/>
          <a:stretch/>
        </p:blipFill>
        <p:spPr>
          <a:xfrm>
            <a:off x="1357200" y="928800"/>
            <a:ext cx="1643040" cy="1285920"/>
          </a:xfrm>
          <a:prstGeom prst="rect">
            <a:avLst/>
          </a:prstGeom>
          <a:ln w="9360">
            <a:solidFill>
              <a:srgbClr val="2c71ff"/>
            </a:solidFill>
            <a:miter/>
          </a:ln>
        </p:spPr>
      </p:pic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Step 1 b.jpg"/>
          <p:cNvPicPr/>
          <p:nvPr/>
        </p:nvPicPr>
        <p:blipFill>
          <a:blip r:embed="rId3"/>
          <a:stretch/>
        </p:blipFill>
        <p:spPr>
          <a:xfrm>
            <a:off x="6227640" y="357120"/>
            <a:ext cx="2617920" cy="3714840"/>
          </a:xfrm>
          <a:prstGeom prst="rect">
            <a:avLst/>
          </a:prstGeom>
          <a:ln w="9360">
            <a:solidFill>
              <a:srgbClr val="ff388c"/>
            </a:solidFill>
            <a:miter/>
          </a:ln>
        </p:spPr>
      </p:pic>
      <p:pic>
        <p:nvPicPr>
          <p:cNvPr id="319" name="Picture 4" descr="Step 1 c.jpg"/>
          <p:cNvPicPr/>
          <p:nvPr/>
        </p:nvPicPr>
        <p:blipFill>
          <a:blip r:embed="rId4"/>
          <a:stretch/>
        </p:blipFill>
        <p:spPr>
          <a:xfrm>
            <a:off x="142920" y="2357280"/>
            <a:ext cx="3357360" cy="2421000"/>
          </a:xfrm>
          <a:prstGeom prst="rect">
            <a:avLst/>
          </a:prstGeom>
          <a:ln w="9360">
            <a:solidFill>
              <a:srgbClr val="d519ff"/>
            </a:solidFill>
            <a:miter/>
          </a:ln>
        </p:spPr>
      </p:pic>
      <p:pic>
        <p:nvPicPr>
          <p:cNvPr id="320" name="Picture 2" descr=""/>
          <p:cNvPicPr/>
          <p:nvPr/>
        </p:nvPicPr>
        <p:blipFill>
          <a:blip r:embed="rId5"/>
          <a:srcRect l="26297" t="21037" r="28287" b="4384"/>
          <a:stretch/>
        </p:blipFill>
        <p:spPr>
          <a:xfrm>
            <a:off x="3357720" y="1071720"/>
            <a:ext cx="2714400" cy="2786040"/>
          </a:xfrm>
          <a:prstGeom prst="rect">
            <a:avLst/>
          </a:prstGeom>
          <a:ln w="9360">
            <a:solidFill>
              <a:srgbClr val="ff2bd8"/>
            </a:solidFill>
            <a:miter/>
          </a:ln>
        </p:spPr>
      </p:pic>
      <p:pic>
        <p:nvPicPr>
          <p:cNvPr id="321" name="Picture 4" descr=""/>
          <p:cNvPicPr/>
          <p:nvPr/>
        </p:nvPicPr>
        <p:blipFill>
          <a:blip r:embed="rId6"/>
          <a:srcRect l="16632" t="44737" r="12630" b="17371"/>
          <a:stretch/>
        </p:blipFill>
        <p:spPr>
          <a:xfrm>
            <a:off x="5643720" y="4021200"/>
            <a:ext cx="3071520" cy="2631960"/>
          </a:xfrm>
          <a:prstGeom prst="rect">
            <a:avLst/>
          </a:prstGeom>
          <a:ln w="9360">
            <a:solidFill>
              <a:srgbClr val="e90062"/>
            </a:solidFill>
            <a:miter/>
          </a:ln>
        </p:spPr>
      </p:pic>
      <p:pic>
        <p:nvPicPr>
          <p:cNvPr id="322" name="Picture 8" descr=""/>
          <p:cNvPicPr/>
          <p:nvPr/>
        </p:nvPicPr>
        <p:blipFill>
          <a:blip r:embed="rId7"/>
          <a:srcRect l="11451" t="16030" r="44179" b="17556"/>
          <a:stretch/>
        </p:blipFill>
        <p:spPr>
          <a:xfrm>
            <a:off x="2071800" y="4000680"/>
            <a:ext cx="2857320" cy="2673000"/>
          </a:xfrm>
          <a:prstGeom prst="rect">
            <a:avLst/>
          </a:prstGeom>
          <a:ln w="9360">
            <a:solidFill>
              <a:srgbClr val="ff88ba"/>
            </a:solidFill>
            <a:miter/>
          </a:ln>
        </p:spPr>
      </p:pic>
      <p:sp>
        <p:nvSpPr>
          <p:cNvPr id="323" name="Double Wave 8"/>
          <p:cNvSpPr/>
          <p:nvPr/>
        </p:nvSpPr>
        <p:spPr>
          <a:xfrm>
            <a:off x="3000240" y="342900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133920 h 1071720"/>
              <a:gd name="textAreaBottom" fmla="*/ 9378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St Basils Cathedral by doing the 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733320" y="1081080"/>
            <a:ext cx="2670120" cy="1633680"/>
          </a:xfrm>
          <a:prstGeom prst="rect">
            <a:avLst/>
          </a:prstGeom>
          <a:ln w="12600">
            <a:solidFill>
              <a:srgbClr val="e90062"/>
            </a:solidFill>
            <a:miter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5929200" y="428760"/>
            <a:ext cx="3073680" cy="1923840"/>
          </a:xfrm>
          <a:prstGeom prst="rect">
            <a:avLst/>
          </a:prstGeom>
          <a:ln w="12600">
            <a:solidFill>
              <a:srgbClr val="2c71ff"/>
            </a:solidFill>
            <a:miter/>
          </a:ln>
        </p:spPr>
      </p:pic>
      <p:pic>
        <p:nvPicPr>
          <p:cNvPr id="327" name="Picture 5" descr=""/>
          <p:cNvPicPr/>
          <p:nvPr/>
        </p:nvPicPr>
        <p:blipFill>
          <a:blip r:embed="rId4"/>
          <a:stretch/>
        </p:blipFill>
        <p:spPr>
          <a:xfrm>
            <a:off x="4643280" y="4429080"/>
            <a:ext cx="4349880" cy="2122560"/>
          </a:xfrm>
          <a:prstGeom prst="rect">
            <a:avLst/>
          </a:prstGeom>
          <a:ln w="12600">
            <a:solidFill>
              <a:srgbClr val="ff2bd8"/>
            </a:solidFill>
            <a:miter/>
          </a:ln>
        </p:spPr>
      </p:pic>
      <p:pic>
        <p:nvPicPr>
          <p:cNvPr id="328" name="Picture 6" descr=""/>
          <p:cNvPicPr/>
          <p:nvPr/>
        </p:nvPicPr>
        <p:blipFill>
          <a:blip r:embed="rId5"/>
          <a:stretch/>
        </p:blipFill>
        <p:spPr>
          <a:xfrm>
            <a:off x="357120" y="3357720"/>
            <a:ext cx="3533760" cy="2527200"/>
          </a:xfrm>
          <a:prstGeom prst="rect">
            <a:avLst/>
          </a:prstGeom>
          <a:ln w="9360">
            <a:solidFill>
              <a:srgbClr val="e90062"/>
            </a:solidFill>
            <a:miter/>
          </a:ln>
        </p:spPr>
      </p:pic>
      <p:sp>
        <p:nvSpPr>
          <p:cNvPr id="329" name="Oval Callout 6"/>
          <p:cNvSpPr/>
          <p:nvPr/>
        </p:nvSpPr>
        <p:spPr>
          <a:xfrm>
            <a:off x="1643040" y="2571840"/>
            <a:ext cx="2571840" cy="1714320"/>
          </a:xfrm>
          <a:prstGeom prst="wedgeEllipseCallout">
            <a:avLst>
              <a:gd name="adj1" fmla="val -39092"/>
              <a:gd name="adj2" fmla="val 48101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opy on the tower over from the 3D warehouse and then start doing the others off the shape of 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7" descr=""/>
          <p:cNvPicPr/>
          <p:nvPr/>
        </p:nvPicPr>
        <p:blipFill>
          <a:blip r:embed="rId6"/>
          <a:stretch/>
        </p:blipFill>
        <p:spPr>
          <a:xfrm>
            <a:off x="5786280" y="2071800"/>
            <a:ext cx="3029040" cy="2309760"/>
          </a:xfrm>
          <a:prstGeom prst="rect">
            <a:avLst/>
          </a:prstGeom>
          <a:ln w="0">
            <a:noFill/>
          </a:ln>
        </p:spPr>
      </p:pic>
      <p:sp>
        <p:nvSpPr>
          <p:cNvPr id="331" name="Flowchart: Multidocument 9"/>
          <p:cNvSpPr/>
          <p:nvPr/>
        </p:nvSpPr>
        <p:spPr>
          <a:xfrm>
            <a:off x="3857760" y="1214280"/>
            <a:ext cx="1928520" cy="1643400"/>
          </a:xfrm>
          <a:prstGeom prst="flowChartMultidocumen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building it 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3235320" cy="2000520"/>
          </a:xfrm>
          <a:prstGeom prst="rect">
            <a:avLst/>
          </a:prstGeom>
          <a:ln w="12600">
            <a:solidFill>
              <a:srgbClr val="e90062"/>
            </a:solidFill>
            <a:miter/>
          </a:ln>
        </p:spPr>
      </p:pic>
      <p:pic>
        <p:nvPicPr>
          <p:cNvPr id="333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5500800" y="142920"/>
            <a:ext cx="3408120" cy="2176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4"/>
          <a:stretch/>
        </p:blipFill>
        <p:spPr>
          <a:xfrm>
            <a:off x="2143080" y="1943280"/>
            <a:ext cx="3214800" cy="1914480"/>
          </a:xfrm>
          <a:prstGeom prst="rect">
            <a:avLst/>
          </a:prstGeom>
          <a:ln w="0">
            <a:noFill/>
          </a:ln>
        </p:spPr>
      </p:pic>
      <p:sp>
        <p:nvSpPr>
          <p:cNvPr id="336" name="Flowchart: Internal Storage 7"/>
          <p:cNvSpPr/>
          <p:nvPr/>
        </p:nvSpPr>
        <p:spPr>
          <a:xfrm>
            <a:off x="285840" y="3714840"/>
            <a:ext cx="4786200" cy="785880"/>
          </a:xfrm>
          <a:prstGeom prst="flowChartInternalStorag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tutorial for the onion d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ame 9"/>
          <p:cNvSpPr/>
          <p:nvPr/>
        </p:nvSpPr>
        <p:spPr>
          <a:xfrm>
            <a:off x="5072040" y="2071800"/>
            <a:ext cx="2428920" cy="135720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doing the d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5"/>
          <a:stretch/>
        </p:blipFill>
        <p:spPr>
          <a:xfrm>
            <a:off x="785880" y="4357800"/>
            <a:ext cx="3814560" cy="2319120"/>
          </a:xfrm>
          <a:prstGeom prst="rect">
            <a:avLst/>
          </a:prstGeom>
          <a:ln w="0">
            <a:noFill/>
          </a:ln>
        </p:spPr>
      </p:pic>
      <p:pic>
        <p:nvPicPr>
          <p:cNvPr id="339" name="Frame 11" descr=""/>
          <p:cNvPicPr/>
          <p:nvPr/>
        </p:nvPicPr>
        <p:blipFill>
          <a:blip r:embed="rId6"/>
          <a:stretch/>
        </p:blipFill>
        <p:spPr>
          <a:xfrm>
            <a:off x="4950000" y="3809880"/>
            <a:ext cx="4022640" cy="2730600"/>
          </a:xfrm>
          <a:prstGeom prst="rect">
            <a:avLst/>
          </a:prstGeom>
          <a:ln w="0">
            <a:noFill/>
          </a:ln>
        </p:spPr>
      </p:pic>
      <p:sp>
        <p:nvSpPr>
          <p:cNvPr id="340" name="Double Wave 12"/>
          <p:cNvSpPr/>
          <p:nvPr/>
        </p:nvSpPr>
        <p:spPr>
          <a:xfrm>
            <a:off x="428760" y="25002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9000 h 71640"/>
              <a:gd name="textAreaBottom" fmla="*/ 63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786120" cy="316044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2" descr=""/>
          <p:cNvPicPr/>
          <p:nvPr/>
        </p:nvPicPr>
        <p:blipFill>
          <a:blip r:embed="rId2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sp>
        <p:nvSpPr>
          <p:cNvPr id="343" name="Cube 3"/>
          <p:cNvSpPr/>
          <p:nvPr/>
        </p:nvSpPr>
        <p:spPr>
          <a:xfrm>
            <a:off x="5286240" y="1928880"/>
            <a:ext cx="2857680" cy="1071360"/>
          </a:xfrm>
          <a:prstGeom prst="cube">
            <a:avLst>
              <a:gd name="adj" fmla="val 250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w to the middle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3"/>
          <a:stretch/>
        </p:blipFill>
        <p:spPr>
          <a:xfrm>
            <a:off x="3929040" y="3500280"/>
            <a:ext cx="4357800" cy="2926080"/>
          </a:xfrm>
          <a:prstGeom prst="rect">
            <a:avLst/>
          </a:prstGeom>
          <a:ln w="0">
            <a:noFill/>
          </a:ln>
        </p:spPr>
      </p:pic>
      <p:sp>
        <p:nvSpPr>
          <p:cNvPr id="345" name="Pentagon 7"/>
          <p:cNvSpPr/>
          <p:nvPr/>
        </p:nvSpPr>
        <p:spPr>
          <a:xfrm>
            <a:off x="571680" y="4572000"/>
            <a:ext cx="3000240" cy="150012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ull up around the edge a bit higher than the floor the dome columns are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sp>
        <p:nvSpPr>
          <p:cNvPr id="347" name="Action Button: Home 2">
            <a:hlinkClick r:id="" action="ppaction://hlinkshowjump?jump=firstslide"/>
          </p:cNvPr>
          <p:cNvSpPr/>
          <p:nvPr/>
        </p:nvSpPr>
        <p:spPr>
          <a:xfrm>
            <a:off x="6000840" y="1000080"/>
            <a:ext cx="1928880" cy="1500120"/>
          </a:xfrm>
          <a:custGeom>
            <a:avLst/>
            <a:gdLst>
              <a:gd name="textAreaLeft" fmla="*/ 97200 w 1928880"/>
              <a:gd name="textAreaRight" fmla="*/ 1831680 w 19288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2" y="6448"/>
                </a:ln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2" y="6448"/>
                </a:move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3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3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rt adding colour to your 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285840" y="1000080"/>
            <a:ext cx="4911480" cy="40006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4500720" y="2967120"/>
            <a:ext cx="4643280" cy="3890880"/>
          </a:xfrm>
          <a:prstGeom prst="rect">
            <a:avLst/>
          </a:prstGeom>
          <a:ln w="0">
            <a:noFill/>
          </a:ln>
        </p:spPr>
      </p:pic>
      <p:sp>
        <p:nvSpPr>
          <p:cNvPr id="350" name="Action Button: Home 5">
            <a:hlinkClick r:id="" action="ppaction://hlinkshowjump?jump=firstslide"/>
          </p:cNvPr>
          <p:cNvSpPr/>
          <p:nvPr/>
        </p:nvSpPr>
        <p:spPr>
          <a:xfrm>
            <a:off x="1357200" y="5072040"/>
            <a:ext cx="1928880" cy="1500120"/>
          </a:xfrm>
          <a:custGeom>
            <a:avLst/>
            <a:gdLst>
              <a:gd name="textAreaLeft" fmla="*/ 97200 w 1928880"/>
              <a:gd name="textAreaRight" fmla="*/ 1831680 w 1928880"/>
              <a:gd name="textAreaTop" fmla="*/ 97200 h 1500120"/>
              <a:gd name="textAreaBottom" fmla="*/ 1402920 h 150012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2" y="6448"/>
                </a:ln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2" y="6448"/>
                </a:moveTo>
                <a:lnTo>
                  <a:pt x="16462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3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3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Keep adding till you are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1" descr=""/>
          <p:cNvPicPr/>
          <p:nvPr/>
        </p:nvPicPr>
        <p:blipFill>
          <a:blip r:embed="rId1"/>
          <a:stretch/>
        </p:blipFill>
        <p:spPr>
          <a:xfrm>
            <a:off x="3029040" y="42840"/>
            <a:ext cx="2822400" cy="1828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rcRect l="915" t="2637" r="12842" b="1135"/>
          <a:stretch/>
        </p:blipFill>
        <p:spPr>
          <a:xfrm>
            <a:off x="928800" y="1071720"/>
            <a:ext cx="707220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1" descr=""/>
          <p:cNvPicPr/>
          <p:nvPr/>
        </p:nvPicPr>
        <p:blipFill>
          <a:blip r:embed="rId1"/>
          <a:stretch/>
        </p:blipFill>
        <p:spPr>
          <a:xfrm>
            <a:off x="341280" y="1609560"/>
            <a:ext cx="8802720" cy="34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9:52Z</dcterms:created>
  <dc:creator>Diocesan School for Girls</dc:creator>
  <dc:description/>
  <dc:language>en-US</dc:language>
  <cp:lastModifiedBy>Diocesan School for Girls</cp:lastModifiedBy>
  <dcterms:modified xsi:type="dcterms:W3CDTF">2009-09-09T07:55:31Z</dcterms:modified>
  <cp:revision>44</cp:revision>
  <dc:subject/>
  <dc:title>Slide 1</dc:title>
</cp:coreProperties>
</file>